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3D79-AD85-4B74-A1CE-1992093AC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E8E0-3772-4460-983C-0FF996AD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E5F-A14C-4A05-BDC2-96B07B50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EDD-34D0-4A4F-8A26-E91A7DFE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8C7-37EB-4942-BE0D-F057645B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2A3-D5EF-4108-878A-F3FAA5A6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607-B1B3-4236-89AF-7EF0E5FD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BF0-2E7D-4A3C-88D0-40567E24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D1F-5CD8-41FB-BE03-E36112BF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1E1-1632-4412-AF15-DB7F325A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97F-3237-4437-AB1A-8D0549B6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F6A-5C7C-489D-9E16-140CE54D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DDD-662C-41B9-A680-FB113B3E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947-FDCB-4534-BB47-8E1F2411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3653-6CAE-4EA2-BABC-E2C403788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slide2.xml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2.jpe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7.pn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8.png"/><Relationship Id="rId26" Type="http://schemas.openxmlformats.org/officeDocument/2006/relationships/image" Target="../media/image2.jpeg"/><Relationship Id="rId27" Type="http://schemas.openxmlformats.org/officeDocument/2006/relationships/image" Target="../media/image9.png"/><Relationship Id="rId28" Type="http://schemas.openxmlformats.org/officeDocument/2006/relationships/image" Target="../media/image2.jpeg"/><Relationship Id="rId29" Type="http://schemas.openxmlformats.org/officeDocument/2006/relationships/image" Target="../media/image10.png"/><Relationship Id="rId30" Type="http://schemas.openxmlformats.org/officeDocument/2006/relationships/image" Target="../media/image2.jpeg"/><Relationship Id="rId31" Type="http://schemas.openxmlformats.org/officeDocument/2006/relationships/image" Target="../media/image11.pn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12.jpeg"/><Relationship Id="rId35" Type="http://schemas.openxmlformats.org/officeDocument/2006/relationships/image" Target="../media/image13.jpeg"/><Relationship Id="rId36" Type="http://schemas.openxmlformats.org/officeDocument/2006/relationships/image" Target="../media/image14.jpeg"/><Relationship Id="rId37" Type="http://schemas.openxmlformats.org/officeDocument/2006/relationships/image" Target="../media/image15.jpeg"/><Relationship Id="rId38" Type="http://schemas.openxmlformats.org/officeDocument/2006/relationships/image" Target="../media/image16.jpeg"/><Relationship Id="rId39" Type="http://schemas.openxmlformats.org/officeDocument/2006/relationships/image" Target="../media/image17.jpeg"/><Relationship Id="rId40" Type="http://schemas.openxmlformats.org/officeDocument/2006/relationships/image" Target="../media/image18.jpeg"/><Relationship Id="rId41" Type="http://schemas.openxmlformats.org/officeDocument/2006/relationships/image" Target="../media/image19.jpeg"/><Relationship Id="rId42" Type="http://schemas.openxmlformats.org/officeDocument/2006/relationships/image" Target="../media/image20.jpeg"/><Relationship Id="rId43" Type="http://schemas.openxmlformats.org/officeDocument/2006/relationships/image" Target="../media/image21.jpeg"/><Relationship Id="rId44" Type="http://schemas.openxmlformats.org/officeDocument/2006/relationships/image" Target="../media/image22.jpeg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7"/>
          <p:cNvSpPr/>
          <p:nvPr/>
        </p:nvSpPr>
        <p:spPr>
          <a:xfrm>
            <a:off x="1752480" y="1066680"/>
            <a:ext cx="6019920" cy="75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d0d0d"/>
                </a:solidFill>
                <a:uFillTx/>
                <a:latin typeface="comic"/>
              </a:rPr>
              <a:t>Cara 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5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838440" cy="380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9144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572000" y="0"/>
            <a:ext cx="1828800" cy="380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Elephant"/>
              </a:rPr>
              <a:t>Angie Yous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7030a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1828800" y="1295280"/>
            <a:ext cx="838080" cy="246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4114800" y="4979880"/>
            <a:ext cx="46080" cy="3985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057400" y="1600200"/>
            <a:ext cx="4952880" cy="274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Book Antiqua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6172200" y="51055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0" y="3048120"/>
            <a:ext cx="1752480" cy="231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5257800"/>
            <a:ext cx="1752480" cy="2311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7"/>
          <p:cNvSpPr/>
          <p:nvPr/>
        </p:nvSpPr>
        <p:spPr>
          <a:xfrm>
            <a:off x="0" y="3352680"/>
            <a:ext cx="1752480" cy="187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Book Antiqua"/>
              </a:rPr>
              <a:t>Hola! Mi nombre es Angie. Yo tengo catorce años. Yo vivo en Nueva York. Yo estoy feliz y dulce.  Te amo cantar y nadar. Yo tengo cuatro hermanas. Yo soy de Egipto . Mi amo de familia y amigos . Mis amigos y yo somos felices juntos. Espero que nosotros somos amigas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8" descr="Photo on 2011-10-21 at 13.53 #2.jpg"/>
          <p:cNvPicPr/>
          <p:nvPr/>
        </p:nvPicPr>
        <p:blipFill>
          <a:blip r:embed="rId17"/>
          <a:stretch/>
        </p:blipFill>
        <p:spPr>
          <a:xfrm>
            <a:off x="1938240" y="2073240"/>
            <a:ext cx="622440" cy="160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0" descr="Photo on 2011-10-21 at 13.39 #2.jpg"/>
          <p:cNvPicPr/>
          <p:nvPr/>
        </p:nvPicPr>
        <p:blipFill>
          <a:blip r:embed="rId18"/>
          <a:stretch/>
        </p:blipFill>
        <p:spPr>
          <a:xfrm>
            <a:off x="1962000" y="3730680"/>
            <a:ext cx="579600" cy="1090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4" descr="Photo on 2011-10-21 at 13.53 #2.jpg"/>
          <p:cNvPicPr/>
          <p:nvPr/>
        </p:nvPicPr>
        <p:blipFill>
          <a:blip r:embed="rId19"/>
          <a:stretch/>
        </p:blipFill>
        <p:spPr>
          <a:xfrm>
            <a:off x="2103480" y="4352760"/>
            <a:ext cx="407880" cy="1036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7"/>
          <p:cNvSpPr/>
          <p:nvPr/>
        </p:nvSpPr>
        <p:spPr>
          <a:xfrm>
            <a:off x="2666880" y="4343400"/>
            <a:ext cx="6324840" cy="380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_tradnl" sz="800" spc="-1" strike="noStrike">
                <a:solidFill>
                  <a:srgbClr val="000000"/>
                </a:solidFill>
                <a:latin typeface="Book Antiqua"/>
              </a:rPr>
              <a:t>!De nada, mi alta y divertida amiga. Podemos cantar y bailar y correr y escribir y comer el helado. Tienes para traer su hermana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2743200" y="3733920"/>
            <a:ext cx="6248520" cy="533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Hag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Como está amiga ?Muy bien gracias. Me llama Hagar. Yo vivo en Nueva York. Tengo quince años. Si tengo una herm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Sí, quiero y puedo ir a tú casa, Gracias mi simpática, linda y dulce amiga. ¡Hasta luego 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8" descr="Photo on 2011-10-21 at 13.46.jpg"/>
          <p:cNvPicPr/>
          <p:nvPr/>
        </p:nvPicPr>
        <p:blipFill>
          <a:blip r:embed="rId22"/>
          <a:stretch/>
        </p:blipFill>
        <p:spPr>
          <a:xfrm>
            <a:off x="1889280" y="2968560"/>
            <a:ext cx="641160" cy="1243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7"/>
          <p:cNvSpPr/>
          <p:nvPr/>
        </p:nvSpPr>
        <p:spPr>
          <a:xfrm>
            <a:off x="2514600" y="2133720"/>
            <a:ext cx="6400800" cy="7617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Hola….¿Cómo están amigas?</a:t>
            </a:r>
            <a:r>
              <a:rPr b="1" lang="es-ES" sz="900" spc="-1" strike="noStrike">
                <a:solidFill>
                  <a:srgbClr val="000000"/>
                </a:solidFill>
                <a:latin typeface="Book Antiqua"/>
              </a:rPr>
              <a:t> Pueden ustedes responder a estas preguntas para mi proyecto?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 ¿Có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¿Dónde vives? ¿Cuántos años tienes? ¿Tienes hermanos? ¿</a:t>
            </a: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Sí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o no? ¿ Cuántos? Y ¿ 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2590920" y="4952880"/>
            <a:ext cx="6400800" cy="3812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Hag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Sí voy a traer a mi hermana.Esta va a ser divertido. Estamos felices de algunos . Tener la comida lista.!Hasta la vista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9" descr="Photo on 2011-10-21 at 13.53 #2.jpg"/>
          <p:cNvPicPr/>
          <p:nvPr/>
        </p:nvPicPr>
        <p:blipFill>
          <a:blip r:embed="rId25"/>
          <a:stretch/>
        </p:blipFill>
        <p:spPr>
          <a:xfrm>
            <a:off x="1962000" y="6188040"/>
            <a:ext cx="470160" cy="1187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7"/>
          <p:cNvSpPr/>
          <p:nvPr/>
        </p:nvSpPr>
        <p:spPr>
          <a:xfrm>
            <a:off x="2590920" y="5486400"/>
            <a:ext cx="6400800" cy="533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900" spc="-1" strike="noStrike">
                <a:solidFill>
                  <a:srgbClr val="000000"/>
                </a:solidFill>
                <a:latin typeface="Book Antiqua"/>
              </a:rPr>
              <a:t>¿Son nuestros nuevos compañeros de clase?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2" descr="Photo on 2011-10-21 at 13.46.jpg"/>
          <p:cNvPicPr/>
          <p:nvPr/>
        </p:nvPicPr>
        <p:blipFill>
          <a:blip r:embed="rId27"/>
          <a:stretch/>
        </p:blipFill>
        <p:spPr>
          <a:xfrm>
            <a:off x="1962000" y="5486400"/>
            <a:ext cx="495360" cy="93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7"/>
          <p:cNvSpPr/>
          <p:nvPr/>
        </p:nvSpPr>
        <p:spPr>
          <a:xfrm>
            <a:off x="2666880" y="6172200"/>
            <a:ext cx="6324840" cy="457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 </a:t>
            </a: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Sí </a:t>
            </a:r>
            <a:r>
              <a:rPr b="1" lang="es-ES" sz="900" spc="-1" strike="noStrike">
                <a:solidFill>
                  <a:srgbClr val="343434"/>
                </a:solidFill>
                <a:latin typeface="Book Antiqua"/>
              </a:rPr>
              <a:t>nuestros nuevos compañeros de clase. Tenemos que trabajar en nuestra tare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6"/>
          <p:cNvSpPr/>
          <p:nvPr/>
        </p:nvSpPr>
        <p:spPr>
          <a:xfrm>
            <a:off x="3276720" y="16765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Book Antiqua"/>
              </a:rPr>
              <a:t>¿Qué tal mi amigas?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Book Antiqua"/>
              </a:rPr>
              <a:t>  </a:t>
            </a: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Book Antiqua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5" descr="Photo on 2011-10-21 at 13.39 #2.jpg"/>
          <p:cNvPicPr/>
          <p:nvPr/>
        </p:nvPicPr>
        <p:blipFill>
          <a:blip r:embed="rId29"/>
          <a:stretch/>
        </p:blipFill>
        <p:spPr>
          <a:xfrm>
            <a:off x="1962000" y="495000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7"/>
          <p:cNvSpPr/>
          <p:nvPr/>
        </p:nvSpPr>
        <p:spPr>
          <a:xfrm>
            <a:off x="2590920" y="2971800"/>
            <a:ext cx="6553080" cy="685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 </a:t>
            </a: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Buenas Tardes . Muy bien! Gracias. Me llama Michelle. Yo vivo en Nueva York. Tengo quince años. No tengo herman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Si, quiero y puedo ir a tú ca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45 minute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7391520" y="7475400"/>
            <a:ext cx="20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gie Yousr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¿Dónde vive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- ¿Cuántos años tiene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- ¿Tienes hermanos? ¿Sí o no? ¿Cuánto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- ¿Cómo e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8077320" y="7704000"/>
            <a:ext cx="277560" cy="25830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án amigas?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Pueden ustedes responder a estas preguntas para mi proyecto?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¿Có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¿Dónde vives? ¿Cuántos años tienes? ¿Tienes hermanos? ¿Sï o no? ¿C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venir a mi casa a las 7 de trei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4876920" y="7742160"/>
            <a:ext cx="372960" cy="1476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ien! Gracias. Me llama Michel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7"/>
          <p:cNvSpPr/>
          <p:nvPr/>
        </p:nvSpPr>
        <p:spPr>
          <a:xfrm>
            <a:off x="4876920" y="2895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74" descr=""/>
          <p:cNvPicPr/>
          <p:nvPr/>
        </p:nvPicPr>
        <p:blipFill>
          <a:blip r:embed="rId31"/>
          <a:stretch/>
        </p:blipFill>
        <p:spPr>
          <a:xfrm>
            <a:off x="73080" y="262080"/>
            <a:ext cx="6102360" cy="1012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2666880" y="1295280"/>
            <a:ext cx="914400" cy="2462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3581280" y="1295280"/>
            <a:ext cx="838440" cy="2462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0" descr="27913_495731607116178_151797171_n.jpg"/>
          <p:cNvPicPr/>
          <p:nvPr/>
        </p:nvPicPr>
        <p:blipFill>
          <a:blip r:embed="rId34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1" descr="ishra.jpg"/>
          <p:cNvPicPr/>
          <p:nvPr/>
        </p:nvPicPr>
        <p:blipFill>
          <a:blip r:embed="rId35"/>
          <a:stretch/>
        </p:blipFill>
        <p:spPr>
          <a:xfrm>
            <a:off x="609480" y="56451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2" descr="michelle.jpg"/>
          <p:cNvPicPr/>
          <p:nvPr/>
        </p:nvPicPr>
        <p:blipFill>
          <a:blip r:embed="rId36"/>
          <a:stretch/>
        </p:blipFill>
        <p:spPr>
          <a:xfrm>
            <a:off x="114300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3" descr="211710_100001528534843_984851639_q.jpg"/>
          <p:cNvPicPr/>
          <p:nvPr/>
        </p:nvPicPr>
        <p:blipFill>
          <a:blip r:embed="rId37"/>
          <a:stretch/>
        </p:blipFill>
        <p:spPr>
          <a:xfrm>
            <a:off x="76320" y="61722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5" descr="187193_100003303262761_1960013596_q.jpg"/>
          <p:cNvPicPr/>
          <p:nvPr/>
        </p:nvPicPr>
        <p:blipFill>
          <a:blip r:embed="rId38"/>
          <a:stretch/>
        </p:blipFill>
        <p:spPr>
          <a:xfrm>
            <a:off x="609480" y="61722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6" descr="IMG_1031.jpg"/>
          <p:cNvPicPr/>
          <p:nvPr/>
        </p:nvPicPr>
        <p:blipFill>
          <a:blip r:embed="rId39"/>
          <a:stretch/>
        </p:blipFill>
        <p:spPr>
          <a:xfrm>
            <a:off x="1143000" y="6172200"/>
            <a:ext cx="48276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7" descr="photo.JPG"/>
          <p:cNvPicPr/>
          <p:nvPr/>
        </p:nvPicPr>
        <p:blipFill>
          <a:blip r:embed="rId40"/>
          <a:stretch/>
        </p:blipFill>
        <p:spPr>
          <a:xfrm>
            <a:off x="5181480" y="152280"/>
            <a:ext cx="112896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8" descr="photo (3).JPG"/>
          <p:cNvPicPr/>
          <p:nvPr/>
        </p:nvPicPr>
        <p:blipFill>
          <a:blip r:embed="rId41"/>
          <a:stretch/>
        </p:blipFill>
        <p:spPr>
          <a:xfrm>
            <a:off x="0" y="1552680"/>
            <a:ext cx="838080" cy="134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0" descr="photo (2).JPG"/>
          <p:cNvPicPr/>
          <p:nvPr/>
        </p:nvPicPr>
        <p:blipFill>
          <a:blip r:embed="rId42"/>
          <a:stretch/>
        </p:blipFill>
        <p:spPr>
          <a:xfrm>
            <a:off x="838080" y="1523880"/>
            <a:ext cx="88596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1" descr="photo (6).JPG"/>
          <p:cNvPicPr/>
          <p:nvPr/>
        </p:nvPicPr>
        <p:blipFill>
          <a:blip r:embed="rId43"/>
          <a:stretch/>
        </p:blipFill>
        <p:spPr>
          <a:xfrm>
            <a:off x="0" y="380880"/>
            <a:ext cx="685800" cy="8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2" descr="photo (1).JPG"/>
          <p:cNvPicPr/>
          <p:nvPr/>
        </p:nvPicPr>
        <p:blipFill>
          <a:blip r:embed="rId44"/>
          <a:stretch/>
        </p:blipFill>
        <p:spPr>
          <a:xfrm>
            <a:off x="685800" y="380880"/>
            <a:ext cx="77148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0" y="1295280"/>
            <a:ext cx="1752480" cy="2311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fotos de Angie Yous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3" descr="photo (7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cp:lastPrinted>2012-12-06T18:31:48Z</cp:lastPrinted>
  <dcterms:modified xsi:type="dcterms:W3CDTF">2013-01-02T18:28:56Z</dcterms:modified>
  <cp:revision>138</cp:revision>
  <dc:subject/>
  <dc:title>Profile</dc:title>
</cp:coreProperties>
</file>